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20.wmf" ContentType="image/x-wmf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wmf" ContentType="image/x-wmf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35BF-4CF1-41A8-8942-B2AB98820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A1B0-9A0F-472B-A304-FECDB64C93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CB0B-2BC8-493B-B88A-C41C1D36F0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EA58-C98D-4C45-8DE8-57B35AB52F7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493-B62D-49D3-826C-EE12FF1AF7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373C-D421-4C37-8ED9-540A2ADFF4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477-412A-4BC7-B50D-1C944DD6FB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267F-0894-412C-858C-BD7204A4F5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F14-EA34-4097-B507-61F0C8A4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177-60B3-4A93-B5F1-87BEC4A4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3D0-0443-4B1D-8418-429654EA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B7D-6CFE-4307-93FD-612BE1D2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FE5-762B-4498-BAB5-7766B9A9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5D1-C299-4B53-800C-5B097F74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ADF-C727-464B-A5B1-61CD69A9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5B9-DCBF-4ED3-B149-E85D8863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765-21B9-4420-8F61-CC517346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393-98E3-4D4E-A0AC-9D0C55C2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A98-AD26-4509-BD45-4E46E0CD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C4B-BF80-4817-9F04-638FBDDD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53DF-37D9-462C-A097-C98B49357E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685800" y="-31680"/>
            <a:ext cx="1117908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C:\Users\Daniel\AppData\Local\Microsoft\Windows\Temporary Internet Files\Content.IE5\82P6XMA5\MCj04363780000[1].png"/>
          <p:cNvPicPr/>
          <p:nvPr/>
        </p:nvPicPr>
        <p:blipFill>
          <a:blip r:embed="rId2"/>
          <a:stretch/>
        </p:blipFill>
        <p:spPr>
          <a:xfrm>
            <a:off x="4191120" y="571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3"/>
          <a:stretch/>
        </p:blipFill>
        <p:spPr>
          <a:xfrm>
            <a:off x="-1066680" y="144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380880" y="609480"/>
            <a:ext cx="25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Recorded Sound" descr=""/>
          <p:cNvPicPr/>
          <p:nvPr/>
        </p:nvPicPr>
        <p:blipFill>
          <a:blip r:embed="rId1"/>
          <a:stretch/>
        </p:blipFill>
        <p:spPr>
          <a:xfrm>
            <a:off x="-457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aduckinherpond.com/wp-content/uploads/2009/02/dsc04688-199x300.jpg"/>
          <p:cNvPicPr/>
          <p:nvPr/>
        </p:nvPicPr>
        <p:blipFill>
          <a:blip r:embed="rId2"/>
          <a:stretch/>
        </p:blipFill>
        <p:spPr>
          <a:xfrm>
            <a:off x="4038480" y="2895480"/>
            <a:ext cx="1895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5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400800" y="1066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05320" y="5335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28195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Down Arrow 10"/>
          <p:cNvSpPr/>
          <p:nvPr/>
        </p:nvSpPr>
        <p:spPr>
          <a:xfrm rot="18386400">
            <a:off x="3343320" y="372852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4038480" y="42670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4" name="Down Arrow 11"/>
          <p:cNvSpPr/>
          <p:nvPr/>
        </p:nvSpPr>
        <p:spPr>
          <a:xfrm rot="16849800">
            <a:off x="4856040" y="433476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638680" y="4724280"/>
            <a:ext cx="993960" cy="665280"/>
          </a:xfrm>
          <a:prstGeom prst="rect">
            <a:avLst/>
          </a:prstGeom>
          <a:ln w="0">
            <a:noFill/>
          </a:ln>
        </p:spPr>
      </p:pic>
      <p:sp>
        <p:nvSpPr>
          <p:cNvPr id="106" name="Down Arrow 15"/>
          <p:cNvSpPr/>
          <p:nvPr/>
        </p:nvSpPr>
        <p:spPr>
          <a:xfrm rot="13125600">
            <a:off x="7218000" y="4403520"/>
            <a:ext cx="484200" cy="8316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7238880" y="3657600"/>
            <a:ext cx="1460520" cy="879480"/>
          </a:xfrm>
          <a:prstGeom prst="rect">
            <a:avLst/>
          </a:prstGeom>
          <a:ln w="0">
            <a:noFill/>
          </a:ln>
        </p:spPr>
      </p:pic>
      <p:sp>
        <p:nvSpPr>
          <p:cNvPr id="108" name="Down Arrow 17"/>
          <p:cNvSpPr/>
          <p:nvPr/>
        </p:nvSpPr>
        <p:spPr>
          <a:xfrm rot="13125600">
            <a:off x="7980120" y="2803320"/>
            <a:ext cx="484200" cy="8316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781680" y="2209680"/>
            <a:ext cx="838440" cy="57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620120" y="2209680"/>
            <a:ext cx="823680" cy="609840"/>
          </a:xfrm>
          <a:prstGeom prst="rect">
            <a:avLst/>
          </a:prstGeom>
          <a:ln w="0">
            <a:noFill/>
          </a:ln>
        </p:spPr>
      </p:pic>
      <p:sp>
        <p:nvSpPr>
          <p:cNvPr id="111" name="Down Arrow 14"/>
          <p:cNvSpPr/>
          <p:nvPr/>
        </p:nvSpPr>
        <p:spPr>
          <a:xfrm rot="12412200">
            <a:off x="2809800" y="2093040"/>
            <a:ext cx="333360" cy="714600"/>
          </a:xfrm>
          <a:prstGeom prst="downArrow">
            <a:avLst>
              <a:gd name="adj1" fmla="val 50000"/>
              <a:gd name="adj2" fmla="val 501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971800" y="1219320"/>
            <a:ext cx="67644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orded Sound" descr=""/>
          <p:cNvPicPr/>
          <p:nvPr/>
        </p:nvPicPr>
        <p:blipFill>
          <a:blip r:embed="rId1"/>
          <a:stretch/>
        </p:blipFill>
        <p:spPr>
          <a:xfrm>
            <a:off x="-609480" y="3581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5181480" y="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http://www.aduckinherpond.com/wp-content/uploads/2009/02/dsc04688-199x300.jpg"/>
          <p:cNvPicPr/>
          <p:nvPr/>
        </p:nvPicPr>
        <p:blipFill>
          <a:blip r:embed="rId2"/>
          <a:stretch/>
        </p:blipFill>
        <p:spPr>
          <a:xfrm>
            <a:off x="2895480" y="3809880"/>
            <a:ext cx="189576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ardrop 8"/>
          <p:cNvSpPr/>
          <p:nvPr/>
        </p:nvSpPr>
        <p:spPr>
          <a:xfrm rot="12729600">
            <a:off x="4592160" y="4287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914400" h="914400">
                <a:moveTo>
                  <a:pt x="0" y="457200"/>
                </a:moveTo>
                <a:lnTo>
                  <a:pt x="0" y="457200"/>
                </a:lnTo>
                <a:arcTo wR="457200" hR="457200" stAng="-10799992" swAng="5400000"/>
                <a:lnTo>
                  <a:pt x="685800" y="0"/>
                </a:lnTo>
                <a:lnTo>
                  <a:pt x="914400" y="0"/>
                </a:lnTo>
                <a:lnTo>
                  <a:pt x="914400" y="342900"/>
                </a:lnTo>
                <a:arcTo wR="0" hR="114300" stAng="0" swAng="0"/>
                <a:lnTo>
                  <a:pt x="847445" y="847445"/>
                </a:lnTo>
                <a:arcTo wR="-228600" hR="228600" stAng="2700000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C:\Documents and Settings\lsabey\Local Settings\Temporary Internet Files\Content.IE5\Q1HN1WZ2\MCj04060700000[1].wmf"/>
          <p:cNvPicPr/>
          <p:nvPr/>
        </p:nvPicPr>
        <p:blipFill>
          <a:blip r:embed="rId3"/>
          <a:stretch/>
        </p:blipFill>
        <p:spPr>
          <a:xfrm>
            <a:off x="4800600" y="4419720"/>
            <a:ext cx="4762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81280" y="1371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Recorded Sound" descr=""/>
          <p:cNvPicPr/>
          <p:nvPr/>
        </p:nvPicPr>
        <p:blipFill>
          <a:blip r:embed="rId1"/>
          <a:stretch/>
        </p:blipFill>
        <p:spPr>
          <a:xfrm>
            <a:off x="-83808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lsabey\Local Settings\Temporary Internet Files\Content.IE5\Q1HN1WZ2\MCj04060700000[1].wmf"/>
          <p:cNvPicPr/>
          <p:nvPr/>
        </p:nvPicPr>
        <p:blipFill>
          <a:blip r:embed="rId2"/>
          <a:stretch/>
        </p:blipFill>
        <p:spPr>
          <a:xfrm>
            <a:off x="6019920" y="3429000"/>
            <a:ext cx="15620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4191120" y="1905120"/>
            <a:ext cx="533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31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33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ardrop 3"/>
          <p:cNvSpPr/>
          <p:nvPr/>
        </p:nvSpPr>
        <p:spPr>
          <a:xfrm rot="12502800">
            <a:off x="4939920" y="1542240"/>
            <a:ext cx="1701720" cy="1336680"/>
          </a:xfrm>
          <a:custGeom>
            <a:avLst/>
            <a:gdLst>
              <a:gd name="textAreaLeft" fmla="*/ 249120 w 1701720"/>
              <a:gd name="textAreaRight" fmla="*/ 1452600 w 1701720"/>
              <a:gd name="textAreaTop" fmla="*/ 195480 h 1336680"/>
              <a:gd name="textAreaBottom" fmla="*/ 1141200 h 1336680"/>
            </a:gdLst>
            <a:ahLst/>
            <a:rect l="textAreaLeft" t="textAreaTop" r="textAreaRight" b="textAreaBottom"/>
            <a:pathLst>
              <a:path w="1703205" h="1336030">
                <a:moveTo>
                  <a:pt x="0" y="668015"/>
                </a:moveTo>
                <a:lnTo>
                  <a:pt x="0" y="668015"/>
                </a:lnTo>
                <a:arcTo wR="851603" hR="668015" stAng="-10799996" swAng="5400001"/>
                <a:lnTo>
                  <a:pt x="1277403" y="0"/>
                </a:lnTo>
                <a:lnTo>
                  <a:pt x="1703205" y="0"/>
                </a:lnTo>
                <a:lnTo>
                  <a:pt x="1703205" y="501011"/>
                </a:lnTo>
                <a:arcTo wR="0" hR="167004" stAng="0" swAng="0"/>
                <a:lnTo>
                  <a:pt x="1578491" y="1238201"/>
                </a:lnTo>
                <a:arcTo wR="-425802" hR="334008" stAng="2286682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Documents and Settings\lsabey\Local Settings\Temporary Internet Files\Content.IE5\YSZGR4KJ\MCj04127220000[1].wmf"/>
          <p:cNvPicPr/>
          <p:nvPr/>
        </p:nvPicPr>
        <p:blipFill>
          <a:blip r:embed="rId1"/>
          <a:stretch/>
        </p:blipFill>
        <p:spPr>
          <a:xfrm>
            <a:off x="5181480" y="1600200"/>
            <a:ext cx="959040" cy="95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lsabey\Local Settings\Temporary Internet Files\Content.IE5\Q1HN1WZ2\MCj04060700000[1].wmf"/>
          <p:cNvPicPr/>
          <p:nvPr/>
        </p:nvPicPr>
        <p:blipFill>
          <a:blip r:embed="rId2"/>
          <a:stretch/>
        </p:blipFill>
        <p:spPr>
          <a:xfrm>
            <a:off x="3809880" y="2133720"/>
            <a:ext cx="2705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lsabey\Local Settings\Temporary Internet Files\Content.IE5\Q1HN1WZ2\MCj04345790000[1].wmf"/>
          <p:cNvPicPr/>
          <p:nvPr/>
        </p:nvPicPr>
        <p:blipFill>
          <a:blip r:embed="rId1"/>
          <a:stretch/>
        </p:blipFill>
        <p:spPr>
          <a:xfrm>
            <a:off x="5791320" y="2438280"/>
            <a:ext cx="26859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4191120" y="1905120"/>
            <a:ext cx="533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www.ltgov.bc.ca/gardens/images/garden_roses.jpg"/>
          <p:cNvPicPr/>
          <p:nvPr/>
        </p:nvPicPr>
        <p:blipFill>
          <a:blip r:embed="rId2"/>
          <a:stretch/>
        </p:blipFill>
        <p:spPr>
          <a:xfrm>
            <a:off x="-750960" y="-152280"/>
            <a:ext cx="9742680" cy="701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Daniel\AppData\Local\Microsoft\Windows\Temporary Internet Files\Content.IE5\82P6XMA5\MCj04363780000[1].png"/>
          <p:cNvPicPr/>
          <p:nvPr/>
        </p:nvPicPr>
        <p:blipFill>
          <a:blip r:embed="rId3"/>
          <a:stretch/>
        </p:blipFill>
        <p:spPr>
          <a:xfrm>
            <a:off x="4114800" y="5105520"/>
            <a:ext cx="743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1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53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55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57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62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165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lsabey\Local Settings\Temporary Internet Files\Content.IE5\Q1HN1WZ2\MCj04345790000[1].wmf"/>
          <p:cNvPicPr/>
          <p:nvPr/>
        </p:nvPicPr>
        <p:blipFill>
          <a:blip r:embed="rId1"/>
          <a:stretch/>
        </p:blipFill>
        <p:spPr>
          <a:xfrm>
            <a:off x="6095880" y="3733920"/>
            <a:ext cx="170208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75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77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79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84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187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cuments and Settings\lsabey\Local Settings\Temporary Internet Files\Content.IE5\Q1HN1WZ2\MCj04345790000[1].wmf"/>
          <p:cNvPicPr/>
          <p:nvPr/>
        </p:nvPicPr>
        <p:blipFill>
          <a:blip r:embed="rId13"/>
          <a:stretch/>
        </p:blipFill>
        <p:spPr>
          <a:xfrm>
            <a:off x="6095880" y="1295280"/>
            <a:ext cx="762120" cy="623880"/>
          </a:xfrm>
          <a:prstGeom prst="rect">
            <a:avLst/>
          </a:prstGeom>
          <a:ln w="0">
            <a:noFill/>
          </a:ln>
        </p:spPr>
      </p:pic>
      <p:sp>
        <p:nvSpPr>
          <p:cNvPr id="191" name="Down Arrow 26"/>
          <p:cNvSpPr/>
          <p:nvPr/>
        </p:nvSpPr>
        <p:spPr>
          <a:xfrm rot="16350000">
            <a:off x="5640120" y="1388520"/>
            <a:ext cx="307800" cy="603000"/>
          </a:xfrm>
          <a:prstGeom prst="downArrow">
            <a:avLst>
              <a:gd name="adj1" fmla="val 31926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Documents and Settings\lsabey\Local Settings\Temporary Internet Files\Content.IE5\GBG05ZIE\MCj04413920000[1].wmf"/>
          <p:cNvPicPr/>
          <p:nvPr/>
        </p:nvPicPr>
        <p:blipFill>
          <a:blip r:embed="rId1"/>
          <a:stretch/>
        </p:blipFill>
        <p:spPr>
          <a:xfrm>
            <a:off x="6095880" y="3276720"/>
            <a:ext cx="1806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4191120" y="19051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01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203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205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210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213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lsabey\Local Settings\Temporary Internet Files\Content.IE5\Q1HN1WZ2\MCj04345790000[1].wmf"/>
          <p:cNvPicPr/>
          <p:nvPr/>
        </p:nvPicPr>
        <p:blipFill>
          <a:blip r:embed="rId13"/>
          <a:stretch/>
        </p:blipFill>
        <p:spPr>
          <a:xfrm>
            <a:off x="6095880" y="1295280"/>
            <a:ext cx="762120" cy="623880"/>
          </a:xfrm>
          <a:prstGeom prst="rect">
            <a:avLst/>
          </a:prstGeom>
          <a:ln w="0">
            <a:noFill/>
          </a:ln>
        </p:spPr>
      </p:pic>
      <p:sp>
        <p:nvSpPr>
          <p:cNvPr id="217" name="Down Arrow 26"/>
          <p:cNvSpPr/>
          <p:nvPr/>
        </p:nvSpPr>
        <p:spPr>
          <a:xfrm rot="16350000">
            <a:off x="5640120" y="1388520"/>
            <a:ext cx="307800" cy="603000"/>
          </a:xfrm>
          <a:prstGeom prst="downArrow">
            <a:avLst>
              <a:gd name="adj1" fmla="val 31926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C:\Documents and Settings\lsabey\Local Settings\Temporary Internet Files\Content.IE5\GBG05ZIE\MCj04413920000[1].wmf"/>
          <p:cNvPicPr/>
          <p:nvPr/>
        </p:nvPicPr>
        <p:blipFill>
          <a:blip r:embed="rId14"/>
          <a:stretch/>
        </p:blipFill>
        <p:spPr>
          <a:xfrm>
            <a:off x="7848720" y="3200400"/>
            <a:ext cx="59364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ular Callout 4"/>
          <p:cNvSpPr/>
          <p:nvPr/>
        </p:nvSpPr>
        <p:spPr>
          <a:xfrm>
            <a:off x="1219320" y="228600"/>
            <a:ext cx="7391160" cy="5029200"/>
          </a:xfrm>
          <a:prstGeom prst="wedgeRectCallout">
            <a:avLst>
              <a:gd name="adj1" fmla="val -51759"/>
              <a:gd name="adj2" fmla="val 566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bfc8560f02cfc92f.jpg image by letsdjlogo"/>
          <p:cNvPicPr/>
          <p:nvPr/>
        </p:nvPicPr>
        <p:blipFill>
          <a:blip r:embed="rId1"/>
          <a:stretch/>
        </p:blipFill>
        <p:spPr>
          <a:xfrm>
            <a:off x="-1447920" y="0"/>
            <a:ext cx="10820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slothcentral.com/images/cave.jpg"/>
          <p:cNvPicPr/>
          <p:nvPr/>
        </p:nvPicPr>
        <p:blipFill>
          <a:blip r:embed="rId1"/>
          <a:stretch/>
        </p:blipFill>
        <p:spPr>
          <a:xfrm>
            <a:off x="-1295280" y="228600"/>
            <a:ext cx="11101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slothcentral.com/images/cave.jpg"/>
          <p:cNvPicPr/>
          <p:nvPr/>
        </p:nvPicPr>
        <p:blipFill>
          <a:blip r:embed="rId1"/>
          <a:stretch/>
        </p:blipFill>
        <p:spPr>
          <a:xfrm>
            <a:off x="-1371600" y="-1778040"/>
            <a:ext cx="11210760" cy="7873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tbn0.google.com/images?q=tbn:7KLwcTfUqreAsM:http://www.delawareonline.com/blogs/secondhelpings/uploaded_images/turkey-778333.jpg"/>
          <p:cNvPicPr/>
          <p:nvPr/>
        </p:nvPicPr>
        <p:blipFill>
          <a:blip r:embed="rId2"/>
          <a:stretch/>
        </p:blipFill>
        <p:spPr>
          <a:xfrm>
            <a:off x="3733920" y="4267080"/>
            <a:ext cx="796680" cy="731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Users\Daniel\AppData\Local\Microsoft\Windows\Temporary Internet Files\Content.IE5\82P6XMA5\MPPH03461I0000[1].jpg"/>
          <p:cNvPicPr/>
          <p:nvPr/>
        </p:nvPicPr>
        <p:blipFill>
          <a:blip r:embed="rId3"/>
          <a:stretch/>
        </p:blipFill>
        <p:spPr>
          <a:xfrm>
            <a:off x="1219320" y="2362320"/>
            <a:ext cx="61740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Users\Daniel\AppData\Local\Microsoft\Windows\Temporary Internet Files\Content.IE5\82P6XMA5\MPPH03935I0000[1].jpg"/>
          <p:cNvPicPr/>
          <p:nvPr/>
        </p:nvPicPr>
        <p:blipFill>
          <a:blip r:embed="rId4"/>
          <a:stretch/>
        </p:blipFill>
        <p:spPr>
          <a:xfrm>
            <a:off x="1600200" y="380988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Daniel\AppData\Local\Microsoft\Windows\Temporary Internet Files\Content.IE5\82P6XMA5\MCj04363780000[1].png"/>
          <p:cNvPicPr/>
          <p:nvPr/>
        </p:nvPicPr>
        <p:blipFill>
          <a:blip r:embed="rId5"/>
          <a:stretch/>
        </p:blipFill>
        <p:spPr>
          <a:xfrm>
            <a:off x="2971800" y="3429000"/>
            <a:ext cx="838080" cy="665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Daniel\AppData\Local\Microsoft\Windows\Temporary Internet Files\Content.IE5\M83SO2KY\MPj04410500000[1].jpg"/>
          <p:cNvPicPr/>
          <p:nvPr/>
        </p:nvPicPr>
        <p:blipFill>
          <a:blip r:embed="rId6"/>
          <a:stretch/>
        </p:blipFill>
        <p:spPr>
          <a:xfrm>
            <a:off x="3657600" y="3429000"/>
            <a:ext cx="723960" cy="646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lsabey\Local Settings\Temporary Internet Files\Content.IE5\GBG05ZIE\MCj04413920000[1].wmf"/>
          <p:cNvPicPr/>
          <p:nvPr/>
        </p:nvPicPr>
        <p:blipFill>
          <a:blip r:embed="rId7"/>
          <a:stretch/>
        </p:blipFill>
        <p:spPr>
          <a:xfrm rot="19429200">
            <a:off x="-239760" y="4339800"/>
            <a:ext cx="1125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http://i1.ytimg.com/vi/LgyN_GSrA8A/hqdefault.jpg"/>
          <p:cNvPicPr/>
          <p:nvPr/>
        </p:nvPicPr>
        <p:blipFill>
          <a:blip r:embed="rId1"/>
          <a:stretch/>
        </p:blipFill>
        <p:spPr>
          <a:xfrm>
            <a:off x="228600" y="2133720"/>
            <a:ext cx="4495680" cy="3133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environmentalevidence.org/Images/fox1.jpg"/>
          <p:cNvPicPr/>
          <p:nvPr/>
        </p:nvPicPr>
        <p:blipFill>
          <a:blip r:embed="rId2"/>
          <a:stretch/>
        </p:blipFill>
        <p:spPr>
          <a:xfrm>
            <a:off x="4724280" y="152280"/>
            <a:ext cx="2994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200400" y="609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304920" y="380880"/>
            <a:ext cx="8305560" cy="760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orded Sound" descr=""/>
          <p:cNvPicPr/>
          <p:nvPr/>
        </p:nvPicPr>
        <p:blipFill>
          <a:blip r:embed="rId1"/>
          <a:stretch/>
        </p:blipFill>
        <p:spPr>
          <a:xfrm>
            <a:off x="-53352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t2.gstatic.com/images?q=tbn:lgducV1ATcfp8M:http://bp1.blogger.com/_FAH_C0-8mJ8/Rx3tPqEcBRI/AAAAAAAAADM/dvMUjlipR6g/s320/Sad%2BFace.JPG"/>
          <p:cNvPicPr/>
          <p:nvPr/>
        </p:nvPicPr>
        <p:blipFill>
          <a:blip r:embed="rId2"/>
          <a:stretch/>
        </p:blipFill>
        <p:spPr>
          <a:xfrm>
            <a:off x="3276720" y="18288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228600" y="-533520"/>
            <a:ext cx="8847000" cy="73915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52280" y="914400"/>
            <a:ext cx="25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http://inzones.com/picturezone/pictures/t2/chicken27.jpg"/>
          <p:cNvPicPr/>
          <p:nvPr/>
        </p:nvPicPr>
        <p:blipFill>
          <a:blip r:embed="rId2"/>
          <a:stretch/>
        </p:blipFill>
        <p:spPr>
          <a:xfrm>
            <a:off x="1981080" y="5334120"/>
            <a:ext cx="914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91440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0" descr="http://inzones.com/picturezone/pictures/t2/chicken27.jpg"/>
          <p:cNvPicPr/>
          <p:nvPr/>
        </p:nvPicPr>
        <p:blipFill>
          <a:blip r:embed="rId2"/>
          <a:stretch/>
        </p:blipFill>
        <p:spPr>
          <a:xfrm>
            <a:off x="2362320" y="5257800"/>
            <a:ext cx="914400" cy="627120"/>
          </a:xfrm>
          <a:prstGeom prst="rect">
            <a:avLst/>
          </a:prstGeom>
          <a:ln w="0">
            <a:noFill/>
          </a:ln>
        </p:spPr>
      </p:pic>
      <p:sp>
        <p:nvSpPr>
          <p:cNvPr id="66" name="Lightning Bolt 13"/>
          <p:cNvSpPr/>
          <p:nvPr/>
        </p:nvSpPr>
        <p:spPr>
          <a:xfrm rot="18693000">
            <a:off x="1331640" y="5370120"/>
            <a:ext cx="914400" cy="9144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ardrop 14"/>
          <p:cNvSpPr/>
          <p:nvPr/>
        </p:nvSpPr>
        <p:spPr>
          <a:xfrm rot="12727200">
            <a:off x="3330720" y="5184000"/>
            <a:ext cx="792000" cy="717480"/>
          </a:xfrm>
          <a:custGeom>
            <a:avLst/>
            <a:gdLst>
              <a:gd name="textAreaLeft" fmla="*/ 115920 w 792000"/>
              <a:gd name="textAreaRight" fmla="*/ 676080 w 792000"/>
              <a:gd name="textAreaTop" fmla="*/ 105120 h 717480"/>
              <a:gd name="textAreaBottom" fmla="*/ 612360 h 717480"/>
            </a:gdLst>
            <a:ahLst/>
            <a:rect l="textAreaLeft" t="textAreaTop" r="textAreaRight" b="textAreaBottom"/>
            <a:pathLst>
              <a:path w="792288" h="717125">
                <a:moveTo>
                  <a:pt x="0" y="358563"/>
                </a:moveTo>
                <a:lnTo>
                  <a:pt x="0" y="358563"/>
                </a:lnTo>
                <a:arcTo wR="396144" hR="358563" stAng="10800000" swAng="5400010"/>
                <a:lnTo>
                  <a:pt x="594216" y="0"/>
                </a:lnTo>
                <a:lnTo>
                  <a:pt x="792288" y="0"/>
                </a:lnTo>
                <a:lnTo>
                  <a:pt x="792288" y="268922"/>
                </a:lnTo>
                <a:arcTo wR="0" hR="89641" stAng="0" swAng="0"/>
                <a:lnTo>
                  <a:pt x="734274" y="664616"/>
                </a:lnTo>
                <a:arcTo wR="-198072" hR="179282" stAng="2528957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Scared Chicken In A Green Shirt, Bending Over And Covering Its Head"/>
          <p:cNvPicPr/>
          <p:nvPr/>
        </p:nvPicPr>
        <p:blipFill>
          <a:blip r:embed="rId3"/>
          <a:stretch/>
        </p:blipFill>
        <p:spPr>
          <a:xfrm>
            <a:off x="3505320" y="5410080"/>
            <a:ext cx="347400" cy="31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cared Chicken In A Green Shirt, Bending Over And Covering Its Head"/>
          <p:cNvPicPr/>
          <p:nvPr/>
        </p:nvPicPr>
        <p:blipFill>
          <a:blip r:embed="rId2"/>
          <a:stretch/>
        </p:blipFill>
        <p:spPr>
          <a:xfrm>
            <a:off x="2514600" y="5181480"/>
            <a:ext cx="1701720" cy="15321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7" descr=""/>
          <p:cNvPicPr/>
          <p:nvPr/>
        </p:nvPicPr>
        <p:blipFill>
          <a:blip r:embed="rId3"/>
          <a:stretch/>
        </p:blipFill>
        <p:spPr>
          <a:xfrm>
            <a:off x="3902040" y="2749680"/>
            <a:ext cx="13464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514600" y="1752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Down Arrow 10"/>
          <p:cNvSpPr/>
          <p:nvPr/>
        </p:nvSpPr>
        <p:spPr>
          <a:xfrm rot="18386400">
            <a:off x="3343320" y="311904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C:\Documents and Settings\lsabey\Local Settings\Temporary Internet Files\Content.IE5\GBG05ZIE\MPj04425190000[1].jpg"/>
          <p:cNvPicPr/>
          <p:nvPr/>
        </p:nvPicPr>
        <p:blipFill>
          <a:blip r:embed="rId2"/>
          <a:stretch/>
        </p:blipFill>
        <p:spPr>
          <a:xfrm>
            <a:off x="4038480" y="4038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9" name="Down Arrow 11"/>
          <p:cNvSpPr/>
          <p:nvPr/>
        </p:nvSpPr>
        <p:spPr>
          <a:xfrm rot="16849800">
            <a:off x="4856040" y="41824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C:\Documents and Settings\lsabey\Local Settings\Temporary Internet Files\Content.IE5\Q1HN1WZ2\MPj04389830000[1].jpg"/>
          <p:cNvPicPr/>
          <p:nvPr/>
        </p:nvPicPr>
        <p:blipFill>
          <a:blip r:embed="rId3"/>
          <a:stretch/>
        </p:blipFill>
        <p:spPr>
          <a:xfrm>
            <a:off x="5638680" y="4572000"/>
            <a:ext cx="1222560" cy="817560"/>
          </a:xfrm>
          <a:prstGeom prst="rect">
            <a:avLst/>
          </a:prstGeom>
          <a:ln w="0">
            <a:noFill/>
          </a:ln>
        </p:spPr>
      </p:pic>
      <p:sp>
        <p:nvSpPr>
          <p:cNvPr id="81" name="Down Arrow 15"/>
          <p:cNvSpPr/>
          <p:nvPr/>
        </p:nvSpPr>
        <p:spPr>
          <a:xfrm rot="13125600">
            <a:off x="7218000" y="4403520"/>
            <a:ext cx="484200" cy="8316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C:\Documents and Settings\lsabey\Local Settings\Temporary Internet Files\Content.IE5\GBG05ZIE\MCj04244920000[1].wmf"/>
          <p:cNvPicPr/>
          <p:nvPr/>
        </p:nvPicPr>
        <p:blipFill>
          <a:blip r:embed="rId4"/>
          <a:stretch/>
        </p:blipFill>
        <p:spPr>
          <a:xfrm>
            <a:off x="7238880" y="3657600"/>
            <a:ext cx="1460520" cy="879480"/>
          </a:xfrm>
          <a:prstGeom prst="rect">
            <a:avLst/>
          </a:prstGeom>
          <a:ln w="0">
            <a:noFill/>
          </a:ln>
        </p:spPr>
      </p:pic>
      <p:sp>
        <p:nvSpPr>
          <p:cNvPr id="83" name="Down Arrow 17"/>
          <p:cNvSpPr/>
          <p:nvPr/>
        </p:nvSpPr>
        <p:spPr>
          <a:xfrm rot="13125600">
            <a:off x="7980120" y="2803320"/>
            <a:ext cx="484200" cy="8316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0" descr="http://inzones.com/picturezone/pictures/t2/chicken27.jpg"/>
          <p:cNvPicPr/>
          <p:nvPr/>
        </p:nvPicPr>
        <p:blipFill>
          <a:blip r:embed="rId5"/>
          <a:stretch/>
        </p:blipFill>
        <p:spPr>
          <a:xfrm>
            <a:off x="8001000" y="2209680"/>
            <a:ext cx="914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Daniel\AppData\Local\Microsoft\Windows\Temporary Internet Files\Content.IE5\M83SO2KY\MPj04410500000[1].jpg"/>
          <p:cNvPicPr/>
          <p:nvPr/>
        </p:nvPicPr>
        <p:blipFill>
          <a:blip r:embed="rId1"/>
          <a:stretch/>
        </p:blipFill>
        <p:spPr>
          <a:xfrm>
            <a:off x="2438280" y="1828800"/>
            <a:ext cx="2835360" cy="3502080"/>
          </a:xfrm>
          <a:prstGeom prst="rect">
            <a:avLst/>
          </a:prstGeom>
          <a:ln w="0">
            <a:noFill/>
          </a:ln>
        </p:spPr>
      </p:pic>
      <p:sp>
        <p:nvSpPr>
          <p:cNvPr id="86" name="Oval Callout 10"/>
          <p:cNvSpPr/>
          <p:nvPr/>
        </p:nvSpPr>
        <p:spPr>
          <a:xfrm>
            <a:off x="5638680" y="1981080"/>
            <a:ext cx="1905120" cy="1447920"/>
          </a:xfrm>
          <a:prstGeom prst="wedgeEllipseCallout">
            <a:avLst>
              <a:gd name="adj1" fmla="val -115333"/>
              <a:gd name="adj2" fmla="val 394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80880" y="609480"/>
            <a:ext cx="25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-30492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aduckinherpond.com/wp-content/uploads/2009/02/dsc04688-199x300.jpg"/>
          <p:cNvPicPr/>
          <p:nvPr/>
        </p:nvPicPr>
        <p:blipFill>
          <a:blip r:embed="rId3"/>
          <a:stretch/>
        </p:blipFill>
        <p:spPr>
          <a:xfrm>
            <a:off x="6248520" y="2362320"/>
            <a:ext cx="631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34:44Z</dcterms:created>
  <dc:creator>Madsens</dc:creator>
  <dc:description/>
  <dc:language>en-US</dc:language>
  <cp:lastModifiedBy>itsuser</cp:lastModifiedBy>
  <dcterms:modified xsi:type="dcterms:W3CDTF">2009-10-08T15:03:27Z</dcterms:modified>
  <cp:revision>49</cp:revision>
  <dc:subject/>
  <dc:title>Slide 1</dc:title>
</cp:coreProperties>
</file>